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D9656-7D3E-4025-AF8D-885DC08C4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40420-6155-47FE-9DDB-7F39D47272C9}" type="slidenum">
              <a:rPr b="0" lang="en-US" sz="1200" spc="-1" strike="noStrike">
                <a:solidFill>
                  <a:srgbClr val="9999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94F-6F9B-4194-AF03-EFF1CCA7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9B4-1CD4-4115-B30F-43629FE2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197-5DFE-4162-9B03-969FCF14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86C-F3CD-408F-9F99-5231F95B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C536-355B-4E62-A732-8865723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BED8-1D76-4F08-A8B7-280CE3E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21E3-0134-45A1-BC6F-C3850B23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9B60-F4B7-4EF5-AA4A-2E1CA980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FDAB-C197-4686-88D8-1FD969E9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29B-5B8D-4AD8-9045-A4BEACC7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10A0-B876-4C40-9B6D-FAAB4479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CE35-DDDA-4E44-BBA8-374C2A6F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D3FF-4515-44CD-BDD2-11E3E57B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7270-4B23-4A6A-8651-A0C22ED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39A8-EBEF-4414-8052-A0F2B203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8191-6219-43F5-9900-AED20E23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C9B7-E590-4C77-8F20-11A859B8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9366C-D6A0-41FE-A2EC-C2188CD9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E9DE-8CE8-4ABE-9C2D-141EA043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EA245-FC96-43A2-B1D4-47899E57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FFDE-104F-4BB8-A92D-9130BF0F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C050-DAE3-448C-A720-29A77995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B0E-CB54-4CE5-997F-EF6BABD3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CDA67-9F70-4FFC-88E6-F67F85E6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361D-B42F-4C6C-83AD-79A02C9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4B65-C56C-4756-A81C-E4D030CB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0011-88CE-4E7C-A194-8351F373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D1AE-054B-49E8-8FD3-D174F3CC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E4D8-5F9E-43DC-9F7F-FEEFD084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DF77-0CE3-46EA-8390-207C6A26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083F7-077E-4A54-9610-20B7EA8C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7488-40D2-41B4-A6C7-1DEF55AB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B98C8-9ED5-4151-A6A4-761AE66D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677-BA34-4D5C-8ABA-76F83A4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F6812-AD6D-47B1-8A25-F2F66CD4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2C16-F443-43ED-8510-55D80E75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4AACB-EBBA-463A-A320-7B2CB905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86C6-4C44-410B-870F-D4194BE8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5EAB-EA56-46E3-A51D-151E379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4C2C-BD63-439C-8DDA-D78C7CA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F611-566A-4EE6-8815-78120951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0765-F85F-4C2A-95C8-4BD2CFBB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DF3F-3DB3-4185-920F-7FFF3AFC6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1851B-0737-4157-8EFA-7DCD8CF0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C8C-B030-463E-83C0-B44B967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841D8-6DCA-45F1-9E53-68878179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1DF7B-4664-4F20-BFCF-C1EE4C6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F2436-CA49-4453-BFFA-DEDA6EFA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EF457-C9D4-41FD-9A4F-06FBEBDA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0D655-B0EE-4B06-B52D-E7C64873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7D417-8882-41C4-880D-4E1D5E8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F3241-B6C5-4C72-8FBF-C5A94EF1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025F6-B5F7-439B-A40C-65ADBFF4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6D33-C79C-43C4-95D2-FD78351B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13AA-1FDC-4F04-A1EE-A48746CC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EFD-AA52-4F8B-951F-37CFC04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9C86-8E82-4D83-A620-1BE534D5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A781-1D9F-48A1-BC9F-BF34EDA0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F4F3B-69F7-4376-9492-8E00BF8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CB78-D1C0-4E81-8486-1BAFBEE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7F88D-C82D-4304-BA44-3FACEF5C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0BAD-5CED-4DD8-8D58-A0BC74C6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5F66B-6B9F-40B8-A70F-60D1A096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5884-52C1-4890-8866-7ECC0AD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B397A-EBDD-45D0-83B2-78E2ABE0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C8B46-3692-4E97-8730-8FC14E63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C5A-871C-45D9-993E-3A649134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7D5B3-C2D7-4FA6-BC13-25E1BA80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A22DC-3E29-4C83-9EAF-205D4F49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47ACA-FB68-4BF6-B303-BF337EC9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AE10-0ED5-43A6-B62A-A015E4F4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9F67E-BB30-4EE6-A5BC-954C807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AA2D8-D04B-4FC6-90FD-7C9068CE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A635-2F90-47BC-AE59-6C45F57C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768B-E2E6-4F42-88EB-B4DBF597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C181-FF30-454B-9F29-EC27BA55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42217-AE1C-4BE7-9B46-D142876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582-2ED1-4FD9-946C-E5F60482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9D159-0FE6-493C-8262-483276D1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B8540-3BF7-49CB-A5F4-9AC9B45A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8712-9833-45D3-A8CB-7EDF1393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AC7D-4C7D-4169-AB6F-1B546820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F98B4-998E-4A3B-B9C6-6F334A50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0C5-764F-44A0-8FC9-B3179A0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16040"/>
            <a:ext cx="3245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3DF99-2AE3-4F46-8FA6-4ED99E7B2BD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B9798-3D76-4ED9-8DE2-F1D6EB622F1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961920" y="708120"/>
            <a:ext cx="2970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4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961920" y="708120"/>
            <a:ext cx="27799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7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971640" y="6356520"/>
            <a:ext cx="149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abab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1709F-8E4A-41ED-9590-2BB31940364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8"/>
          <p:cNvSpPr/>
          <p:nvPr/>
        </p:nvSpPr>
        <p:spPr>
          <a:xfrm>
            <a:off x="961920" y="708120"/>
            <a:ext cx="2924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30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06F1C-3B49-4280-BFD4-07BCC6F7B3A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8"/>
          <p:cNvSpPr/>
          <p:nvPr/>
        </p:nvSpPr>
        <p:spPr>
          <a:xfrm>
            <a:off x="961920" y="708120"/>
            <a:ext cx="3419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3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B674D-9E18-4FD8-A575-61AA8D1563D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8"/>
          <p:cNvSpPr/>
          <p:nvPr/>
        </p:nvSpPr>
        <p:spPr>
          <a:xfrm>
            <a:off x="961920" y="708120"/>
            <a:ext cx="3029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CC2C-CB35-40E2-B05B-5AE8B29ECFE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8"/>
          <p:cNvSpPr/>
          <p:nvPr/>
        </p:nvSpPr>
        <p:spPr>
          <a:xfrm>
            <a:off x="961920" y="708120"/>
            <a:ext cx="3781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SLUŽBA VLADE RS ZA RAZVOJ IN EVROPSKO KOHEZIJSKO POLITIKO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59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209E7-69C3-4DB8-8FCF-DE04A157375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640" y="1695240"/>
            <a:ext cx="7200720" cy="35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Optimizacija </a:t>
            </a:r>
            <a:br>
              <a:rPr sz="4400"/>
            </a:br>
            <a:r>
              <a:rPr b="1" lang="sl-SI" sz="4400" spc="-1" strike="noStrike">
                <a:solidFill>
                  <a:srgbClr val="000000"/>
                </a:solidFill>
                <a:latin typeface="Arial"/>
                <a:ea typeface="Arial"/>
              </a:rPr>
              <a:t>in ostali načrti glede informacijskega sistema ISARR</a:t>
            </a:r>
            <a:br>
              <a:rPr sz="4400"/>
            </a:b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9" name="PoljeZBesedilom 5"/>
          <p:cNvSpPr/>
          <p:nvPr/>
        </p:nvSpPr>
        <p:spPr>
          <a:xfrm>
            <a:off x="464040" y="6134040"/>
            <a:ext cx="217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l-SI" sz="1600" spc="-1" strike="noStrike">
                <a:solidFill>
                  <a:srgbClr val="0070c0"/>
                </a:solidFill>
                <a:latin typeface="Arial"/>
              </a:rPr>
              <a:t>Otočec, 21. maj 2014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ipravljamo izboljšave na področju izmenjave podatkov med informacijskim sistemom organa upravljanja in informacijskim sistemom plačilnega organa in organa za potrjevanja  z namenom, da se avtomatizira izmenjava podatkov med vsemi sistemi in se s tem skrajša tudi potreben čas za izplačilo in pripravo zahtevka za povračilo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1" name="Magnetni disk 4"/>
          <p:cNvSpPr/>
          <p:nvPr/>
        </p:nvSpPr>
        <p:spPr>
          <a:xfrm>
            <a:off x="5438880" y="4552920"/>
            <a:ext cx="1276200" cy="1095480"/>
          </a:xfrm>
          <a:prstGeom prst="flowChartMagneticDisk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MFERAC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2" name="Magnetni disk 5"/>
          <p:cNvSpPr/>
          <p:nvPr/>
        </p:nvSpPr>
        <p:spPr>
          <a:xfrm>
            <a:off x="2247840" y="4552920"/>
            <a:ext cx="1276560" cy="1095480"/>
          </a:xfrm>
          <a:prstGeom prst="flowChartMagneticDisk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ISARR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3" name="Desna puščica 2"/>
          <p:cNvSpPr/>
          <p:nvPr/>
        </p:nvSpPr>
        <p:spPr>
          <a:xfrm>
            <a:off x="3666960" y="4691160"/>
            <a:ext cx="1648080" cy="39060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odatki za odredbe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4" name="Leva puščica 3"/>
          <p:cNvSpPr/>
          <p:nvPr/>
        </p:nvSpPr>
        <p:spPr>
          <a:xfrm>
            <a:off x="3753000" y="5295960"/>
            <a:ext cx="1562040" cy="352440"/>
          </a:xfrm>
          <a:prstGeom prst="left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Calibri"/>
              </a:rPr>
              <a:t>Podatki o izplačilih</a:t>
            </a:r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V sodelovanju z Ministrstvom za notranje zadeve, ki je pristojen za področje državne informatike načrtujemo prehod informacijskega sistema v oblačno storitev 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e-cloud) </a:t>
            </a: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485640" y="3500280"/>
            <a:ext cx="8172720" cy="2524320"/>
          </a:xfrm>
          <a:prstGeom prst="rect">
            <a:avLst/>
          </a:prstGeom>
          <a:ln w="0">
            <a:noFill/>
          </a:ln>
        </p:spPr>
      </p:pic>
      <p:sp>
        <p:nvSpPr>
          <p:cNvPr id="317" name="Desna puščica 2"/>
          <p:cNvSpPr/>
          <p:nvPr/>
        </p:nvSpPr>
        <p:spPr>
          <a:xfrm>
            <a:off x="2666880" y="4219560"/>
            <a:ext cx="2686320" cy="122868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Calibri"/>
              </a:rPr>
              <a:t>Prehod na zmogljivejšo in novejšo tehnologij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18" name="PoljeZBesedilom 3"/>
          <p:cNvSpPr/>
          <p:nvPr/>
        </p:nvSpPr>
        <p:spPr>
          <a:xfrm>
            <a:off x="1110600" y="4578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SARR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zmanjševanje števila posameznih  faz pri oddaji zahtevkov za povračilo na način, da se bo ob plačilu upravičenih stroškov v računovodski sistem plačilnega organa (MFERAC), preko odredb avtomatično tvoril zahtevek za povračilo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847800" y="4124160"/>
            <a:ext cx="2009880" cy="1393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6134040" y="4124160"/>
            <a:ext cx="2009880" cy="1393920"/>
          </a:xfrm>
          <a:prstGeom prst="rect">
            <a:avLst/>
          </a:prstGeom>
          <a:ln w="0">
            <a:noFill/>
          </a:ln>
        </p:spPr>
      </p:pic>
      <p:sp>
        <p:nvSpPr>
          <p:cNvPr id="322" name="Desna puščica 2"/>
          <p:cNvSpPr/>
          <p:nvPr/>
        </p:nvSpPr>
        <p:spPr>
          <a:xfrm>
            <a:off x="3000240" y="4303800"/>
            <a:ext cx="3133800" cy="10350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</a:rPr>
              <a:t>Samodejna priprava na osnovi informacije o izplačil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spremembe na področju informacijske podpore izvajanja tehnične pomoči vključno s informacijsko podporo izvajanju vzorčne kontrole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666880" y="4024440"/>
            <a:ext cx="3808440" cy="1738080"/>
          </a:xfrm>
          <a:prstGeom prst="rect">
            <a:avLst/>
          </a:prstGeom>
          <a:ln w="0">
            <a:noFill/>
          </a:ln>
        </p:spPr>
      </p:pic>
      <p:sp>
        <p:nvSpPr>
          <p:cNvPr id="325" name="PoljeZBesedilom 2"/>
          <p:cNvSpPr/>
          <p:nvPr/>
        </p:nvSpPr>
        <p:spPr>
          <a:xfrm>
            <a:off x="1635120" y="6076800"/>
            <a:ext cx="58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800" spc="-1" strike="noStrike">
                <a:solidFill>
                  <a:srgbClr val="ff0000"/>
                </a:solidFill>
                <a:latin typeface="Arial"/>
              </a:rPr>
              <a:t>Poenostavitve in skrajšanje potrebnega časa za kontrolo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125208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črtujemo izboljšave s področja poročanja in izpisov za uporabnike ter izboljšanje nadzora Organa upravljanja nad izvajanjem kohezijske politik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029040" y="3024360"/>
            <a:ext cx="3078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640" y="1294920"/>
            <a:ext cx="7200720" cy="24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br>
              <a:rPr sz="2000"/>
            </a:b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Na OU intenzivno pripravljamo vse potrebne podlage za izvedbo javnega naročila v zvezi z novim informacijskim sistemom za podporo izvajanja kohezijske politike 2014-2020. V nov informacijski sistem bomo vključili tudi funkcionalnosti skladne z zahtevami e-kohezije, kot na primer e-razpis, e-podpis, v celoti elektronsko izmenjavo podatkov med upravičenci in posredniškimi telesi…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257640" y="4181400"/>
            <a:ext cx="26287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0:06:07Z</dcterms:created>
  <dc:creator>mitja</dc:creator>
  <dc:description/>
  <dc:language>en-US</dc:language>
  <cp:lastModifiedBy>Janika Gregorič Zečevič</cp:lastModifiedBy>
  <dcterms:modified xsi:type="dcterms:W3CDTF">2014-05-20T10:15:06Z</dcterms:modified>
  <cp:revision>21</cp:revision>
  <dc:subject/>
  <dc:title>Sprememba izvajanja črpanja EU sredstev z poenostavitvami</dc:title>
</cp:coreProperties>
</file>